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s review the DI cards –sample questions and sampl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write some of these for use with Primary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we do not separate content feedback and process feedback, we are doing it here to focus your attention specifically on the difference between the two forms of descrip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nd talk to your elbow partner about any processes you are not very clear ab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ctions are they meant to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0D0DF-224C-4BB6-9BD4-6365322FE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B9C7-B4B3-4F03-BC9C-4855F06A6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B00F-8C98-42F7-95A9-647E79165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A6E11-E25A-4B05-A1DE-3E6CF4409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4FB82-B5E5-4464-B3B9-6430A36D60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BF51E-3526-48B2-985E-2380DC5163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8EF02-B170-49A7-AF26-BB282E04CA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6C79A-203E-419E-AD1E-001EBF5810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B721A-6FCC-4139-9FFE-D2484FA1C6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42C47-BBE1-4238-9831-E52BACD94F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55988-E45E-43B0-9791-39DDA4A906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557A7-AA2F-43BE-90F9-47338443D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BFF24-730E-46FB-8497-25D0FE793A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34C62-6B79-43F2-9BE7-794382C85F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F9D2E-388B-40EE-A928-678F9888EC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1988F-4B39-43D9-9DB5-D3A89B242F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DFFD7-C1F2-4D8A-98B3-A185E258DA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6D2E-9560-49FA-A92A-57C132E6D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C03B-D58B-425D-8F7B-50D59B3E1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9508-C75B-42FB-BB0C-8002834EC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4B541-17A2-4E3C-AAFB-682191CE9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C34D-E11B-4950-B666-8FBB8FEE7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5D18-AAFF-45E7-B6C1-2FA11F8D4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4100-C8F3-447F-92C3-F5141AB84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8141-77DE-4719-8B6C-371007A682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8036-230F-4D36-AE48-BE1BB6555A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-685800"/>
            <a:ext cx="9144000" cy="7543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9D61-F4D7-4BD1-8ED7-4689EA17BE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09480" y="457200"/>
            <a:ext cx="8077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Breakout 3</a:t>
            </a:r>
            <a:br>
              <a:rPr sz="4800"/>
            </a:b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Patterning and Algeb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8000"/>
                </a:solidFill>
                <a:latin typeface="Arial"/>
              </a:rPr>
              <a:t>Responding to Student Mathematical Think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riting Descriptive 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59984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ELLOW post-it notes to write descriptive feedback to the student about the process of representing and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your notes on the posted student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1355-5917-4AA5-95AB-D2865FB904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 process card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t has one card to describe each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sample questions and sample prompts fo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REPRES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and talk at your table about your  reactions to these – how effective would they be with 7 year ol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nother few processes and read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CFEC-F2FF-4643-B759-0E4247289D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28B4-C803-4EF4-8DCB-E2532C3E6C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 rot="19137600">
            <a:off x="2597760" y="3225600"/>
            <a:ext cx="4419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your 3:00 partn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 cards and Tongue depresso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presenting and one more 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student samples that you did not comment on before b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escriptive feedback about ONE or TWO of th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write prompts for K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1DDC-2531-4DB7-9E0F-3298884F5D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 pattern additions to char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33" name="Content Placeholder 4" descr="Screen shot 2011-08-10 at 12.18.56 PM.png"/>
          <p:cNvPicPr/>
          <p:nvPr/>
        </p:nvPicPr>
        <p:blipFill>
          <a:blip r:embed="rId1"/>
          <a:srcRect l="18346" t="0" r="18346" b="0"/>
          <a:stretch/>
        </p:blipFill>
        <p:spPr>
          <a:xfrm>
            <a:off x="1523880" y="1371600"/>
            <a:ext cx="5943600" cy="525780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8CF3-D3C8-40A3-BACF-3F109C8C92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1905120" y="2133720"/>
            <a:ext cx="5486400" cy="2974320"/>
            <a:chOff x="1905120" y="2133720"/>
            <a:chExt cx="5486400" cy="2974320"/>
          </a:xfrm>
        </p:grpSpPr>
        <p:sp>
          <p:nvSpPr>
            <p:cNvPr id="136" name="TextBox 5"/>
            <p:cNvSpPr/>
            <p:nvPr/>
          </p:nvSpPr>
          <p:spPr>
            <a:xfrm>
              <a:off x="1905120" y="21337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eating Patter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6"/>
            <p:cNvSpPr/>
            <p:nvPr/>
          </p:nvSpPr>
          <p:spPr>
            <a:xfrm>
              <a:off x="5639040" y="21337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wing Patter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0"/>
            <p:cNvGrpSpPr/>
            <p:nvPr/>
          </p:nvGrpSpPr>
          <p:grpSpPr>
            <a:xfrm>
              <a:off x="3581280" y="4496400"/>
              <a:ext cx="1981080" cy="611640"/>
              <a:chOff x="3581280" y="4496400"/>
              <a:chExt cx="1981080" cy="611640"/>
            </a:xfrm>
          </p:grpSpPr>
          <p:sp>
            <p:nvSpPr>
              <p:cNvPr id="139" name="TextBox 7"/>
              <p:cNvSpPr/>
              <p:nvPr/>
            </p:nvSpPr>
            <p:spPr>
              <a:xfrm>
                <a:off x="3581280" y="46483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onnectio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0" name="Straight Arrow Connector 9"/>
              <p:cNvCxnSpPr/>
              <p:nvPr/>
            </p:nvCxnSpPr>
            <p:spPr>
              <a:xfrm>
                <a:off x="3733200" y="4496400"/>
                <a:ext cx="1600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</p:grpSp>
      </p:grpSp>
      <p:sp>
        <p:nvSpPr>
          <p:cNvPr id="141" name="TextBox 12"/>
          <p:cNvSpPr/>
          <p:nvPr/>
        </p:nvSpPr>
        <p:spPr>
          <a:xfrm>
            <a:off x="7551720" y="2209680"/>
            <a:ext cx="5461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14"/>
          <p:cNvCxnSpPr/>
          <p:nvPr/>
        </p:nvCxnSpPr>
        <p:spPr>
          <a:xfrm flipH="1">
            <a:off x="1142640" y="2438280"/>
            <a:ext cx="2160" cy="320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ourn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59984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escriptive feedback about what you learne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to comment on content and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4B0D-F42B-447D-9CE2-C3DB369B6B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position cards and working ma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attern that repres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 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ck to one manipulative, in two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Right Number of Elepha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AEB9-3458-42BC-A296-0E0092E87D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2666880" y="1447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 Sheppard and Felicia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33520" y="3048120"/>
            <a:ext cx="80769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m counted 10 trunks. How many legs would there be on the elephants belonging to those 10 trunk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amining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 at a table with another pair of 12:00 partners so there are 4 of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use the samples of studen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1 sample that the 4 of you want to talk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C1C0-984F-43D5-836C-B8B8CBA9EB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ages in Development of Multiplicative Think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137F-2591-41A1-B80D-2D2E850D63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Screen shot 2011-08-10 at 1.03.53 PM.png"/>
          <p:cNvPicPr/>
          <p:nvPr/>
        </p:nvPicPr>
        <p:blipFill>
          <a:blip r:embed="rId1"/>
          <a:stretch/>
        </p:blipFill>
        <p:spPr>
          <a:xfrm>
            <a:off x="380880" y="1600200"/>
            <a:ext cx="8077320" cy="2646360"/>
          </a:xfrm>
          <a:prstGeom prst="rect">
            <a:avLst/>
          </a:prstGeom>
          <a:ln w="0">
            <a:noFill/>
          </a:ln>
        </p:spPr>
      </p:pic>
      <p:pic>
        <p:nvPicPr>
          <p:cNvPr id="100" name="Content Placeholder 4" descr="Screen shot 2011-08-09 at 5.41.55 AM.png"/>
          <p:cNvPicPr/>
          <p:nvPr/>
        </p:nvPicPr>
        <p:blipFill>
          <a:blip r:embed="rId2"/>
          <a:srcRect l="0" t="134" r="0" b="134"/>
          <a:stretch/>
        </p:blipFill>
        <p:spPr>
          <a:xfrm>
            <a:off x="380880" y="3886200"/>
            <a:ext cx="82296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(in the moment) to Mathematical Cont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stages of development of 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(as a table of 4) where your                     work sample “fits” the continu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your 1 student sample write                descriptive feedback on a sticky                       note focusing on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ent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mathematical thinking you are seeing 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your descriptive feedback on the wall on the sample of stude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AB61-3AC9-4864-A334-C71A16EED4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efore Brea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clean up your table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any student samples not used, in the middle of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break – please wander through the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Descriptive Feedback Galler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be ready to comment on what you rea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05D2-E5F5-4520-B12A-D2A2E4CD7D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6868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scriptive Feedback… over tim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70CB-69FF-47CF-BFF6-A8FE25BA9C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1066680" y="22096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105520" y="220968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5105520" y="327672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219320" y="327672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f7aa"/>
                </a:solidFill>
                <a:latin typeface="Arial"/>
              </a:rPr>
              <a:t>Refl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5105520" y="4572000"/>
            <a:ext cx="281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asoning and pr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990720" y="457200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lecting tools an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3124080" y="137160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pres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0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100"/>
                            </p:stCondLst>
                            <p:childTnLst>
                              <p:par>
                                <p:cTn id="5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100"/>
                            </p:stCondLst>
                            <p:childTnLst>
                              <p:par>
                                <p:cTn id="6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100"/>
                            </p:stCondLst>
                            <p:childTnLst>
                              <p:par>
                                <p:cTn id="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Right Number of Elepha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C5A3-CBA0-43DD-B4A6-46E75C1208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2666880" y="1447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 Sheppard and Felicia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685800" y="2895480"/>
            <a:ext cx="80773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m counted 10 trunks. How many legs would there be on the elephants belonging to those 10 trunk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6:52:32Z</dcterms:created>
  <dc:creator>CSC</dc:creator>
  <dc:description/>
  <cp:keywords/>
  <dc:language>en-US</dc:language>
  <cp:lastModifiedBy>Computer Services</cp:lastModifiedBy>
  <dcterms:modified xsi:type="dcterms:W3CDTF">2011-08-19T00:10:53Z</dcterms:modified>
  <cp:revision>42</cp:revision>
  <dc:subject/>
  <dc:title>&lt;Title&gt;</dc:title>
</cp:coreProperties>
</file>